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D88C-1519-45A0-A76F-F54E9639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9756-1171-4A21-A578-6B54553A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E8C9-3B16-461E-BBA2-371B81C1B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8A33-D775-4079-A079-CF5D2FA4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CAC4-8DB7-42D1-BB16-EF4B914D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96E5-8C7A-4A3B-BE2B-B34052FE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7231-30FA-490C-9FC2-1B958245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30CB-9753-49A4-B3FF-88723041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3303-F648-4231-9BCF-91146E53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4368-D183-496B-9440-B4ADEC94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91B0-B297-47A6-BC5B-3FBEE8D8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D24B-187B-49EE-A1F3-7E4F6811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6DC3-495B-4F0B-A5A6-DD0CE009CAA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3"/>
          <a:stretch/>
        </p:blipFill>
        <p:spPr>
          <a:xfrm>
            <a:off x="569880" y="982800"/>
            <a:ext cx="8323200" cy="1077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4"/>
          <a:stretch/>
        </p:blipFill>
        <p:spPr>
          <a:xfrm>
            <a:off x="324000" y="2205000"/>
            <a:ext cx="85550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24000" y="1487520"/>
            <a:ext cx="85690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250920" y="530064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هما مع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حسابنا الأشهر والسنوات  بالق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حساب اليوم والصلوات بالشم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2787480" y="1052640"/>
            <a:ext cx="6032520" cy="546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4"/>
          <a:stretch/>
        </p:blipFill>
        <p:spPr>
          <a:xfrm>
            <a:off x="1879560" y="2562120"/>
            <a:ext cx="6962760" cy="447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"/>
          <p:cNvPicPr/>
          <p:nvPr/>
        </p:nvPicPr>
        <p:blipFill>
          <a:blip r:embed="rId5"/>
          <a:stretch/>
        </p:blipFill>
        <p:spPr>
          <a:xfrm>
            <a:off x="1268280" y="4149720"/>
            <a:ext cx="7601040" cy="100008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250920" y="2994120"/>
            <a:ext cx="8569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ه أخبرنا بحقيقة الشمس والقمر وحدّد لنا مهمة كل منهما، فالشمس هي مصدر الضوء، أما القمر فهو عاكس لهذا الضوء،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250920" y="155736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ثبت الإيمان وترسخ اليق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8"/>
          <a:stretch/>
        </p:blipFill>
        <p:spPr>
          <a:xfrm>
            <a:off x="539640" y="1268280"/>
            <a:ext cx="8136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7920"/>
            <a:ext cx="9145440" cy="122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3003480" y="4772160"/>
            <a:ext cx="3137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تصديق رسالة محمد صلى الله عليه وسل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"/>
          <p:cNvPicPr/>
          <p:nvPr/>
        </p:nvPicPr>
        <p:blipFill>
          <a:blip r:embed="rId1"/>
          <a:stretch/>
        </p:blipFill>
        <p:spPr>
          <a:xfrm>
            <a:off x="250920" y="1967040"/>
            <a:ext cx="8642160" cy="4630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104328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179280" y="5084640"/>
            <a:ext cx="4969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بالشمس تعرف الأيام وبسير القمر تعرف الشهور والأعوا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87200" y="595008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اقب الليل والنه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3203640" y="1125360"/>
            <a:ext cx="4176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إ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جعل للقمر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از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منازل القم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يث يبدو صغيراً ثم يتزايد نوره وجرمه حتى يكتمل إبداره ثم يأخذ بالنقص حتى يعود إلى حالته الأولى في تمام الشه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حكمة من خلق الشمس والقمر وتقدير منازلهم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معرفة حساب السنوات والأشه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تعلم الحساب وعلم الفلك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جائ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جواز تعلم الحساب وعلم الفلك 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تحقيق المصالح الدينية والدنيو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نزيه الله سبحانه ع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445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ا من مخلوق إلا كان لخلق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كمه وغا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08000" y="6021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رحمة الله بعباد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صّل الآيات وأقام الدلائل التي تثبت الإيمان وترسخ اليق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7T09:34:43Z</dcterms:modified>
  <cp:revision>1917</cp:revision>
  <dc:subject/>
  <dc:title>عرض تقديمي في PowerPoint</dc:title>
</cp:coreProperties>
</file>